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4761-3355-4839-87D7-B9AEFFD6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1A99-3C8F-4ACA-AA01-3B3800E0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DDC77-9BEF-429C-8F7C-A79B47E1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0B60F-659A-4BDC-9A91-92AC47FE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625D4-5723-40E2-952E-57CDB6AF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4B80D-5313-4B3E-B58F-C485E35C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DF343-8B32-49A9-95A8-2F1C2B45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BF933-2CD3-4147-9F47-F6E065D6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04877-B9CB-4482-A79B-A39BC8F4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E8B2E-27E4-4928-884E-69688916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BC948-C7E2-4836-851C-EE18CA55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FA9BC-5FFA-4A51-9BF4-5A404B00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471-0DE8-4EA5-B7CB-D04C4DC7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A2720-5B55-4338-9F28-0B7CEC0F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249A9-4D86-4A59-AEA3-85D81D22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A1B9E-42ED-4C49-93F9-4FD064BF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63B60-B627-4F7E-99AC-1D6327B4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96315-B98F-499F-9C6E-1DF5C044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DCA22-EA27-46ED-AE48-AC7FF86D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7AB9E-AC1F-4ED9-9EBC-EDFEF0AB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9C745-9888-47A7-A314-F79BEA27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73C1C-0582-4DEE-B7BE-66BB22F2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92F11-E80B-4670-AF7D-E255192E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25BA-4BA0-4CC0-98CB-C2B86771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800B5-CC56-4D3F-A4A8-3B27432F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289D-7ED6-4D0A-9628-499B349E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1C61-F49B-4D5D-ABEB-CB92FD01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5ECD-4D35-4C49-AA1B-16714BA0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035A-38E3-449F-AFC3-3DB513EA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3B04-D250-4775-BDA2-E02A27F3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1576-A08C-4CB1-9BD5-CEBC3AD1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F789-35C2-4E5D-AC52-669920D9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8F5-3ABD-481E-BC1F-4A741C5E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2ECB-38D6-4431-AE32-5BFBE24D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5B72-6F12-4262-AE28-D3FEECFD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46E5-3070-439E-AE58-5496B2B7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AA58-13C9-42FE-90FC-597DA0CE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CB9C-F859-465A-B9AA-00998C4C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09D41-9E31-4058-8478-9B62AA19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02B72-631A-4361-885A-254572F3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8C9F7-58CE-42C3-A006-C0BF2CFA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2B21D-5CF9-4A5D-B8CA-B506D381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E74B8C-CF00-4846-AF40-25DEF4DE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EE7C-66C0-4CE7-853B-F1403666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C747F-9EA6-4074-99CD-50DBC432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0A620D-A455-4D7F-A821-569F2B8B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08C02-CA6C-4450-91A1-E0B201F9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3458E-5A35-477B-BCD8-FC9AD402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F37AD-C025-4CA0-AC9E-C735EDB4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ED477-7080-41E0-A426-ADBA323F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B283C-4D6D-4383-85A8-30049EC3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51F29-C95F-4DD7-9507-EAF07151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C5865-5F35-4227-995C-CA94D0EB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651A9-907F-4B7C-A9CC-37B00339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B45A-2841-427B-8C66-FD52D025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26624-F3C9-4A29-9649-A5ADDE3F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50FB1-1721-48D6-B528-A2C2700F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7900D-D6B3-4AFB-93D5-13331EB0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53505-D13D-4BC2-B834-548D2A7C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5D37A-0AAD-4EB6-B3E1-E255D014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3B7DE-5ABB-4A7C-B95A-75B26BDA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7BD05-2F47-488D-AE7B-60BA5F48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842AB-286A-49F5-B886-B58B6E2E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8ED86-D750-44F5-BE23-6B46E7E9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BA38E-6AEF-4A35-8FF0-B904D75E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D0A-D258-4097-9CFD-C2ECFDB5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35C6A-97E6-4F1B-9A28-A056BEC4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3C8F3-7A65-473E-B9B9-C6D05D5B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1DD15-D88E-4341-8CC9-3E944BD4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F6DC8-1315-4D79-8819-51878C50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16840-3268-4947-8DD7-B18F8C3C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6180C-0DD0-4438-9C7D-0C86B301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1ED90-E771-42D8-818C-4E90D9A8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757F0-4910-44B9-A7AF-05CA0C04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7A556-ED95-4DBB-AB41-B88680C7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E273E-2C2F-4AE4-BDB7-8354390A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1C7A-A677-47C9-BCCD-D94720A9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2BA9A-2509-43DC-A19B-F88F1C3B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4D070-51AA-4AEA-BB70-B71540BE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9D914-7A7F-4CCF-A2BE-C400AE35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5639E-1BDD-4298-9B10-432C239D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9F476-B9BF-4A7E-AC29-CB2F7834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8E076-239D-452E-BE53-9FB6E72A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E64DB-DFC1-4BB8-9D73-26761ED0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2B7DB-EFE9-4FB1-87A2-C11DD55F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C95D7-F774-449C-B83B-93308586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1295C-51DF-415E-B1E4-E449A68A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D2B-7CE9-40C3-AFB5-04DD3A5E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C404E-BF1A-470C-9E4D-793D3693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A3A2F-7372-44B7-8A72-1B2D7C75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57BB9-79A2-4DA7-91F4-755F80EF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8F7CA-D139-4C26-AD18-C8ACA350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5B4BE-AD88-4FCD-B52F-99C63F64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A4BFF-A934-48B3-8946-1E0D69B6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9DE40-E08B-43FB-A1C6-C5630B40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197D5-29C8-4EC8-94F3-453546B1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E9BB4-DD5D-43A3-AFE4-3DFF18BB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9068E-5EE3-4BD0-9313-6CA35ED6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29FA-3C04-44E1-A9F3-9E4352A9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C72AB-A8FC-476D-915E-702FCD14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06D96-0010-484D-98A8-60E4D695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6B47A-94F0-4380-8B71-DE7974E2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5E5D4-7D64-4973-91F6-B5B77CF3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476D2-B891-4CA2-AE03-8C5CDCB8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C8E1E-0292-41C6-9447-20BBEE70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DD794-CF65-4FE5-A3C8-55C319DD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879A9-32BF-4FCC-B957-2C3ABBD1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88E5D-396B-4AA2-83D3-B32C33B9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C928D-5642-4B0F-BE36-40D52ACB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FBFB-D11D-4A9A-A47C-859C3276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0CE22-6D2C-442D-9EED-0C8CF23C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5ADBF-2463-413C-9A73-A123BED1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BCF91-55A3-439F-B2FA-3889150E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56354-2CCB-42B6-8372-FA1735C4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3E1C8-1608-44B6-8C7B-7D3906D0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1599F-5AFF-41A2-A23C-8DA4664E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490EF-89D6-4DB5-89E3-87E3066E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8B9A4-A47F-48BA-9D81-E6A39AB1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501A9-0843-43E0-AB60-5081EF43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143B8-AF55-46A2-8079-5C005D3D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F202-50BD-4B45-80FC-C5D44FD62F6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768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dt" idx="28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ftr" idx="29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sldNum" idx="30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EF85-EC58-42C2-801F-3F617593E2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B574-FDD7-4AD9-BCB3-F0BAEC2CEF2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5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918A-D916-484A-B49F-3BABE176F41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1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9921-0288-44CD-B970-A85276B9EB3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3182-7F48-4577-9F0E-D496B35CC77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3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7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500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0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3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4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515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6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34E6-0BAC-4F61-8474-3585912B7A5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67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71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576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77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81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B607-C84D-407A-BC1C-8EE0DE6A6C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7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7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7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7507-2274-4477-81EF-AEF6E75306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723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26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05A3-A5AF-4CBC-9611-FC847F5667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ssian-crafts.com/russian-folk-tales.html" TargetMode="External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lture in Russ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Guide to celebrations , religion, and folk stori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liday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ew Years is the biggest holiday in Russia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hristmas is celebrated on January 7</a:t>
            </a:r>
            <a:r>
              <a:rPr b="0" lang="en-US" sz="2400" spc="-1" strike="noStrike" baseline="30000">
                <a:solidFill>
                  <a:srgbClr val="ffcc00"/>
                </a:solidFill>
                <a:latin typeface="Arial Black"/>
              </a:rPr>
              <a:t>th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. Two weeks after American Christma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ir Valentines Day is very similar to American Valentines Day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re is also a Holiday named International Women’s Day. It’s a time when men in Russia try to please women. Sometimes women spend the whole day without men!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ig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in Russia has a very diverse religi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ussian Orthodox:71.8%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Muslim:5.5%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atholic:1.8%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Protestant:0.7%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Buddhist:0.6%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Jewish:0.3%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Other:0.9%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None:18.9%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" dur="2000" fill="hold"/>
                                        <p:tgtEl>
                                          <p:spTgt spid="8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lk S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 to this site for a very long list of folk stories in Russi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russian-crafts.com/russian-folk-tales.htm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redi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ed by Anthony Fo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ten by Anthony Fo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imated by Anthony Fo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lped by Carmen and Lia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5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5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5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5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5000" fill="hold"/>
                                        <p:tgtEl>
                                          <p:spTgt spid="8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000" fill="hold"/>
                                        <p:tgtEl>
                                          <p:spTgt spid="8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3:43:34Z</dcterms:created>
  <dc:creator> </dc:creator>
  <dc:description/>
  <dc:language>en-US</dc:language>
  <cp:lastModifiedBy> </cp:lastModifiedBy>
  <dcterms:modified xsi:type="dcterms:W3CDTF">2010-12-20T14:10:05Z</dcterms:modified>
  <cp:revision>5</cp:revision>
  <dc:subject/>
  <dc:title> Culture in Russia</dc:title>
</cp:coreProperties>
</file>